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E25-5584-4D41-B5E5-FDAF1435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E68-4379-4A8B-981B-CAFF1177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4C3-7050-4807-97B6-8588BC95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954-E650-4946-A087-41BE0948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0A6-CD5A-4DDE-9D62-73657338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09B-3E83-4606-92E8-FEE8569B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4FB-3146-49E6-ABE9-4F92F4EE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F74-E29E-424A-8E7F-46523C50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4BF-991C-428A-94BC-C5A01502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24C-3652-42E4-AAB9-8D0FA2BD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379-91E8-464D-A1E5-548DD45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071-35AD-41F9-9B10-441E9FE9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C930-8173-4700-AAFE-7C10B8404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21664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25189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713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224160" y="2924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5758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9283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2807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99008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4252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69496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304740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9516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74760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0004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45248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81440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668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5192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8717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224160" y="35337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762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9286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11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628880" y="35384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800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199044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234288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69532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04776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39516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4760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10004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45248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0492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46160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1404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1664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5189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8713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224160" y="41436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5758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9283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2807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2852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98096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2855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163800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99044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34288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ff99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69532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0477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3955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74796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10040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5284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80528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1577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1091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46160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81404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1664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5189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8713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224160" y="47530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758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9283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2807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62888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98132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33376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2852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63764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99008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34252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69496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0474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3951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74760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10004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5248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0492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573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46196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81440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668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5192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8717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24160" y="53625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5762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9286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2811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62888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98132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63800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199044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34288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69532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04776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39516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74760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10004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45248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80492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81404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1664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25189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13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224160" y="59724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5758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39283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2807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628520" y="59767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99044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34288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69532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04776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39552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374796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10040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45284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664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5189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28713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224160" y="65818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5758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9283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42807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99044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34288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269532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04776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9552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74796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410040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445284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1664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5189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8713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224160" y="7496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5758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9283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2807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111111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1081080" y="7162560"/>
            <a:ext cx="819000" cy="704880"/>
          </a:xfrm>
          <a:prstGeom prst="hexagon">
            <a:avLst>
              <a:gd name="adj" fmla="val 29047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962240" y="7157880"/>
            <a:ext cx="809640" cy="704880"/>
          </a:xfrm>
          <a:prstGeom prst="hexagon">
            <a:avLst>
              <a:gd name="adj" fmla="val 28716"/>
              <a:gd name="vf" fmla="val 1154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716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GB Color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this page to use for reference when designing files for pri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3:02:39Z</dcterms:created>
  <dc:creator/>
  <dc:description/>
  <dc:language>en-US</dc:language>
  <cp:lastModifiedBy>Electronics For Imaging, Inc.</cp:lastModifiedBy>
  <dcterms:modified xsi:type="dcterms:W3CDTF">2002-04-04T22:28:25Z</dcterms:modified>
  <cp:revision>3</cp:revision>
  <dc:subject/>
  <dc:title>RGB Color Reference</dc:title>
</cp:coreProperties>
</file>